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7E3-00F4-4EA9-BAA8-A8E3577F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6EA-2FCB-4281-8558-6D77B4B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D06-630F-4747-9A84-A5AA5EA1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5B5-4CA5-4200-A92D-FAAA2455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75F-B5B2-4EE1-B4F0-2967E336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FAF-EB9D-44A9-A34A-DAF492C7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F50-3023-458A-9F56-DF55A743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32F-5A6C-43A0-B05F-6C20E6D3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CAB-1F54-4F8F-B236-BD899836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73A-3A1B-444A-B480-C69A054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92E-872B-4082-BA04-C25D105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824-6EA2-428B-9B39-76D8965E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7FD0-A3A6-46B0-8AAE-D37D26D37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0"/>
            <a:ext cx="388620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كنت أبي وأنا ما زلتُ في فكركَ - أنتَ أبي حين أوجدتني</a:t>
            </a:r>
            <a:r>
              <a:rPr b="1" lang="en-US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حيـن ولدتني لحياتـكَ  وســتبقى أبي إلى الأبــ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 أريدُك وحدَك علمني         كيف أحيا وأعيشُ معَ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زدني معرفةً بك إني         أحبُك وأنا دومــاً ل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أُحبُّكَ وأنا دو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513590NCRDtitzaP_ph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0"/>
            <a:ext cx="72388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لَمُ َُضعفي وجراحي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رف قلبي وأفك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رغبُ أن أحياك بكلِّ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ياني بروحي وإحسا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امح عدمَ إخلاصي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َ أبي حين أوجدت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9370043fipmPeKXZd_ph" descr=""/>
          <p:cNvPicPr/>
          <p:nvPr/>
        </p:nvPicPr>
        <p:blipFill>
          <a:blip r:embed="rId2"/>
          <a:stretch/>
        </p:blipFill>
        <p:spPr>
          <a:xfrm>
            <a:off x="40384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43400" cy="10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مُكَ ينضحُني فأطهُر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شفيني نفساً وجسد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ا في قلب العالمِ مُتعَب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ب أن أُصبحَ كُلّي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ُ والحمدُ لكَ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 أنتَ أبي حين أوجدتني 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870792SCABvVcdSc_ph" descr=""/>
          <p:cNvPicPr/>
          <p:nvPr/>
        </p:nvPicPr>
        <p:blipFill>
          <a:blip r:embed="rId1"/>
          <a:stretch/>
        </p:blipFill>
        <p:spPr>
          <a:xfrm>
            <a:off x="-10476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0"/>
            <a:ext cx="4419720" cy="11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بيبيَ خُذ قلبيَ منّي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ُذ روحي وجسدي وتعال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وحَ الحبِّ هلمّ الآ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نوّرني حرّرنــي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ي يسوعَ تعال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أنتَ أبي حين أوجدتني-حيـن ولدتني لحياتـكَ  وســتبقى أبي إلى الأبــ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9:45Z</dcterms:modified>
  <cp:revision>5</cp:revision>
  <dc:subject/>
  <dc:title>PowerPoint Presentation</dc:title>
</cp:coreProperties>
</file>